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f3256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A72F-008D-4D7A-B179-BAF6F62566E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A90A-9920-40DA-B69A-E6110067254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3F70-7C05-41FA-A1C8-2A800375235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7729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14080" y="4130640"/>
            <a:ext cx="7729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14080" y="413064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74800" y="413064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27680" y="198108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0920" y="198108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14080" y="413064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27680" y="413064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0920" y="4130640"/>
            <a:ext cx="248868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1408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09760" y="151920"/>
            <a:ext cx="773424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14080" y="413064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377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74800" y="413064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74800" y="1981080"/>
            <a:ext cx="3771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14080" y="4130640"/>
            <a:ext cx="7729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9760" y="151920"/>
            <a:ext cx="7734240" cy="89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f325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1408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6" descr=""/>
          <p:cNvPicPr/>
          <p:nvPr/>
        </p:nvPicPr>
        <p:blipFill>
          <a:blip r:embed="rId2"/>
          <a:stretch/>
        </p:blipFill>
        <p:spPr>
          <a:xfrm>
            <a:off x="42840" y="380880"/>
            <a:ext cx="1328760" cy="6172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7" descr=""/>
          <p:cNvPicPr/>
          <p:nvPr/>
        </p:nvPicPr>
        <p:blipFill>
          <a:blip r:embed="rId3"/>
          <a:stretch/>
        </p:blipFill>
        <p:spPr>
          <a:xfrm>
            <a:off x="762120" y="2362320"/>
            <a:ext cx="666720" cy="12380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0" descr=""/>
          <p:cNvPicPr/>
          <p:nvPr/>
        </p:nvPicPr>
        <p:blipFill>
          <a:blip r:embed="rId4"/>
          <a:stretch/>
        </p:blipFill>
        <p:spPr>
          <a:xfrm>
            <a:off x="4572000" y="1371600"/>
            <a:ext cx="414360" cy="4935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41" descr=""/>
          <p:cNvPicPr/>
          <p:nvPr/>
        </p:nvPicPr>
        <p:blipFill>
          <a:blip r:embed="rId5"/>
          <a:stretch/>
        </p:blipFill>
        <p:spPr>
          <a:xfrm>
            <a:off x="2514600" y="1371600"/>
            <a:ext cx="4143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2063880" y="2125440"/>
            <a:ext cx="6554160" cy="32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99"/>
                </a:solidFill>
                <a:latin typeface="Arial"/>
              </a:rPr>
              <a:t>Valuing Mental Compu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99"/>
                </a:solidFill>
                <a:latin typeface="Arial"/>
              </a:rPr>
              <a:t>On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600" spc="-1" strike="noStrike">
                <a:solidFill>
                  <a:srgbClr val="000099"/>
                </a:solidFill>
                <a:latin typeface="Arial"/>
              </a:rPr>
              <a:t>Before you start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560" y="353520"/>
            <a:ext cx="733428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f3256"/>
                </a:solidFill>
                <a:latin typeface="Arial"/>
              </a:rPr>
              <a:t>Problem: 52 – 17 =</a:t>
            </a:r>
            <a:endParaRPr b="0" lang="en-US" sz="34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90760" y="1981080"/>
            <a:ext cx="73483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 started at 17 and added 3 to make 20 and then 30 more makes 50 and I need 2 more to get to 52.  My answer is  </a:t>
            </a:r>
            <a:r>
              <a:rPr b="0" lang="en-AU" sz="2800" spc="-1" strike="noStrike">
                <a:solidFill>
                  <a:srgbClr val="919191"/>
                </a:solidFill>
                <a:latin typeface="Arial"/>
              </a:rPr>
              <a:t>33 …,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35. 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K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743200" y="53722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059560" y="5256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593160" y="5256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6488640" y="5256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174440" y="5256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9"/>
          <p:cNvGrpSpPr/>
          <p:nvPr/>
        </p:nvGrpSpPr>
        <p:grpSpPr>
          <a:xfrm>
            <a:off x="3200400" y="3885840"/>
            <a:ext cx="3200040" cy="685800"/>
            <a:chOff x="3200400" y="3885840"/>
            <a:chExt cx="3200040" cy="685800"/>
          </a:xfrm>
        </p:grpSpPr>
        <p:grpSp>
          <p:nvGrpSpPr>
            <p:cNvPr id="92" name="Group 20"/>
            <p:cNvGrpSpPr/>
            <p:nvPr/>
          </p:nvGrpSpPr>
          <p:grpSpPr>
            <a:xfrm>
              <a:off x="3200400" y="3962520"/>
              <a:ext cx="1599840" cy="457200"/>
              <a:chOff x="3200400" y="3962520"/>
              <a:chExt cx="1599840" cy="457200"/>
            </a:xfrm>
          </p:grpSpPr>
          <p:sp>
            <p:nvSpPr>
              <p:cNvPr id="93" name="Line 21"/>
              <p:cNvSpPr/>
              <p:nvPr/>
            </p:nvSpPr>
            <p:spPr>
              <a:xfrm flipV="1">
                <a:off x="3200400" y="3962520"/>
                <a:ext cx="1066680" cy="457200"/>
              </a:xfrm>
              <a:prstGeom prst="line">
                <a:avLst/>
              </a:prstGeom>
              <a:ln w="1260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22"/>
              <p:cNvSpPr/>
              <p:nvPr/>
            </p:nvSpPr>
            <p:spPr>
              <a:xfrm flipH="1" flipV="1">
                <a:off x="4571640" y="3962520"/>
                <a:ext cx="228600" cy="380880"/>
              </a:xfrm>
              <a:prstGeom prst="line">
                <a:avLst/>
              </a:prstGeom>
              <a:ln w="1260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Line 23"/>
            <p:cNvSpPr/>
            <p:nvPr/>
          </p:nvSpPr>
          <p:spPr>
            <a:xfrm flipH="1" flipV="1">
              <a:off x="5638320" y="3885840"/>
              <a:ext cx="762120" cy="68580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Text Box 24"/>
          <p:cNvSpPr/>
          <p:nvPr/>
        </p:nvSpPr>
        <p:spPr>
          <a:xfrm>
            <a:off x="4038480" y="350424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90033"/>
                </a:solidFill>
                <a:latin typeface="Arial"/>
              </a:rPr>
              <a:t>33 …,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26" descr="_x000f_52minus17_2.tif                                                0002C49C&#10;QTP laptop                     00001E4B:"/>
          <p:cNvPicPr/>
          <p:nvPr/>
        </p:nvPicPr>
        <p:blipFill>
          <a:blip r:embed="rId1"/>
          <a:srcRect l="0" t="32003" r="0" b="51202"/>
          <a:stretch/>
        </p:blipFill>
        <p:spPr>
          <a:xfrm>
            <a:off x="1447920" y="4191120"/>
            <a:ext cx="6350040" cy="10666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7"/>
          <p:cNvSpPr/>
          <p:nvPr/>
        </p:nvSpPr>
        <p:spPr>
          <a:xfrm>
            <a:off x="6924960" y="452520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2743560" y="426636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4877280" y="3885120"/>
            <a:ext cx="6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152280"/>
            <a:ext cx="72770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f3256"/>
                </a:solidFill>
                <a:latin typeface="Arial"/>
              </a:rPr>
              <a:t>Problem: 52 – 17 =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85720" y="1981080"/>
            <a:ext cx="7505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rst I take 10 from 50 to get 40. Then I take 7 from 2 to get 5 down. My answer is 35. 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Domi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7"/>
          <p:cNvGrpSpPr/>
          <p:nvPr/>
        </p:nvGrpSpPr>
        <p:grpSpPr>
          <a:xfrm>
            <a:off x="3048120" y="3656520"/>
            <a:ext cx="562680" cy="1259640"/>
            <a:chOff x="3048120" y="3656520"/>
            <a:chExt cx="562680" cy="1259640"/>
          </a:xfrm>
        </p:grpSpPr>
        <p:sp>
          <p:nvSpPr>
            <p:cNvPr id="104" name="Text Box 4"/>
            <p:cNvSpPr/>
            <p:nvPr/>
          </p:nvSpPr>
          <p:spPr>
            <a:xfrm>
              <a:off x="3075480" y="365652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5"/>
            <p:cNvSpPr/>
            <p:nvPr/>
          </p:nvSpPr>
          <p:spPr>
            <a:xfrm>
              <a:off x="3091680" y="40755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6"/>
            <p:cNvSpPr/>
            <p:nvPr/>
          </p:nvSpPr>
          <p:spPr>
            <a:xfrm>
              <a:off x="3091680" y="44564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7"/>
            <p:cNvSpPr/>
            <p:nvPr/>
          </p:nvSpPr>
          <p:spPr>
            <a:xfrm>
              <a:off x="3124080" y="44575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8"/>
            <p:cNvSpPr/>
            <p:nvPr/>
          </p:nvSpPr>
          <p:spPr>
            <a:xfrm>
              <a:off x="3048120" y="40766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Group 20"/>
          <p:cNvGrpSpPr/>
          <p:nvPr/>
        </p:nvGrpSpPr>
        <p:grpSpPr>
          <a:xfrm>
            <a:off x="4844880" y="3694680"/>
            <a:ext cx="1462320" cy="1259640"/>
            <a:chOff x="4844880" y="3694680"/>
            <a:chExt cx="1462320" cy="1259640"/>
          </a:xfrm>
        </p:grpSpPr>
        <p:sp>
          <p:nvSpPr>
            <p:cNvPr id="110" name="Text Box 9"/>
            <p:cNvSpPr/>
            <p:nvPr/>
          </p:nvSpPr>
          <p:spPr>
            <a:xfrm>
              <a:off x="4950000" y="3694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4964400" y="4113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4876920" y="4494600"/>
              <a:ext cx="143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5 dow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4915080" y="449568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4844880" y="4114800"/>
              <a:ext cx="14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9"/>
          <p:cNvGrpSpPr/>
          <p:nvPr/>
        </p:nvGrpSpPr>
        <p:grpSpPr>
          <a:xfrm>
            <a:off x="3505320" y="4876920"/>
            <a:ext cx="1599840" cy="533160"/>
            <a:chOff x="3505320" y="4876920"/>
            <a:chExt cx="1599840" cy="533160"/>
          </a:xfrm>
        </p:grpSpPr>
        <p:sp>
          <p:nvSpPr>
            <p:cNvPr id="116" name="Line 14"/>
            <p:cNvSpPr/>
            <p:nvPr/>
          </p:nvSpPr>
          <p:spPr>
            <a:xfrm>
              <a:off x="3505320" y="4876920"/>
              <a:ext cx="533160" cy="53316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5"/>
            <p:cNvSpPr/>
            <p:nvPr/>
          </p:nvSpPr>
          <p:spPr>
            <a:xfrm flipH="1">
              <a:off x="4266720" y="4876920"/>
              <a:ext cx="838440" cy="484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Text Box 16"/>
          <p:cNvSpPr/>
          <p:nvPr/>
        </p:nvSpPr>
        <p:spPr>
          <a:xfrm>
            <a:off x="3898080" y="540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9760" y="324000"/>
            <a:ext cx="773424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The empty number line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14080" y="1905120"/>
            <a:ext cx="77295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an also be used for larger numb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300 – 158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_x000f_equation_lg.tif                                                0002C49C&#10;QTP laptop                     00001E4B:"/>
          <p:cNvPicPr/>
          <p:nvPr/>
        </p:nvPicPr>
        <p:blipFill>
          <a:blip r:embed="rId1"/>
          <a:srcRect l="0" t="32003" r="0" b="51202"/>
          <a:stretch/>
        </p:blipFill>
        <p:spPr>
          <a:xfrm>
            <a:off x="2057400" y="4267080"/>
            <a:ext cx="6350040" cy="10670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6936840" y="53330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308640" y="525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537240" y="563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4118760" y="53330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2518560" y="533304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531760" y="39456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462120" y="43423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9760" y="247680"/>
            <a:ext cx="77342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The empty number line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300 – 158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&#9;empty.tif                                                      0002C49C&#10;QTP laptop                     00001E4B:"/>
          <p:cNvPicPr/>
          <p:nvPr/>
        </p:nvPicPr>
        <p:blipFill>
          <a:blip r:embed="rId1"/>
          <a:stretch/>
        </p:blipFill>
        <p:spPr>
          <a:xfrm>
            <a:off x="3200400" y="3809880"/>
            <a:ext cx="3086280" cy="14097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5904720" y="47995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671200" y="47995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386160" y="51044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736440" y="47995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379400" y="34581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414000"/>
            <a:ext cx="687708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Partitioning each number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8960" y="3352320"/>
            <a:ext cx="772956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Can be recorded 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20 + 30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3 + 8 =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50 + 11 = 61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654000" y="2207880"/>
            <a:ext cx="27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23 + 38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398160"/>
            <a:ext cx="672444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Partitioning each number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8960" y="3352680"/>
            <a:ext cx="772956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r in diagrammatic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371400" y="2207880"/>
            <a:ext cx="27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23 + 38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5"/>
          <p:cNvGrpSpPr/>
          <p:nvPr/>
        </p:nvGrpSpPr>
        <p:grpSpPr>
          <a:xfrm>
            <a:off x="3278160" y="4026960"/>
            <a:ext cx="2393640" cy="2366640"/>
            <a:chOff x="3278160" y="4026960"/>
            <a:chExt cx="2393640" cy="2366640"/>
          </a:xfrm>
        </p:grpSpPr>
        <p:sp>
          <p:nvSpPr>
            <p:cNvPr id="144" name="Text Box 6"/>
            <p:cNvSpPr/>
            <p:nvPr/>
          </p:nvSpPr>
          <p:spPr>
            <a:xfrm>
              <a:off x="3278160" y="4026960"/>
              <a:ext cx="631800" cy="10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7"/>
            <p:cNvSpPr/>
            <p:nvPr/>
          </p:nvSpPr>
          <p:spPr>
            <a:xfrm>
              <a:off x="5181120" y="4026960"/>
              <a:ext cx="406440" cy="102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8"/>
            <p:cNvSpPr/>
            <p:nvPr/>
          </p:nvSpPr>
          <p:spPr>
            <a:xfrm>
              <a:off x="3278160" y="512640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9"/>
            <p:cNvSpPr/>
            <p:nvPr/>
          </p:nvSpPr>
          <p:spPr>
            <a:xfrm>
              <a:off x="5040000" y="511056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4230360" y="5812200"/>
              <a:ext cx="63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3200" spc="-1" strike="noStrike">
                  <a:solidFill>
                    <a:srgbClr val="000000"/>
                  </a:solidFill>
                  <a:latin typeface="Arial"/>
                </a:rPr>
                <a:t>6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Line 11"/>
          <p:cNvSpPr/>
          <p:nvPr/>
        </p:nvSpPr>
        <p:spPr>
          <a:xfrm>
            <a:off x="3809880" y="55627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2"/>
          <p:cNvSpPr/>
          <p:nvPr/>
        </p:nvSpPr>
        <p:spPr>
          <a:xfrm flipH="1">
            <a:off x="4724280" y="55627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75248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184b81"/>
                </a:solidFill>
                <a:latin typeface="Arial"/>
              </a:rPr>
              <a:t>Mental computation helps to develop an understanding of place valu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9760" y="247680"/>
            <a:ext cx="77342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Using </a:t>
            </a:r>
            <a:r>
              <a:rPr b="0" i="1" lang="en-AU" sz="4200" spc="-1" strike="noStrike">
                <a:solidFill>
                  <a:srgbClr val="0f3256"/>
                </a:solidFill>
                <a:latin typeface="Arial"/>
              </a:rPr>
              <a:t>models of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place value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current approach to developing written algorithms is through forming a place value rationale of “trading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begins with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models of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lace val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u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ulti attribute blocks (MAB, Die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lace value ch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9760" y="247680"/>
            <a:ext cx="77342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Limits of </a:t>
            </a:r>
            <a:r>
              <a:rPr b="0" i="1" lang="en-AU" sz="4200" spc="-1" strike="noStrike">
                <a:solidFill>
                  <a:srgbClr val="0f3256"/>
                </a:solidFill>
                <a:latin typeface="Arial"/>
              </a:rPr>
              <a:t>models of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place value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ense of numbers students need is more than reading the positional tag of a num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ctivities using trading with models of place value do not always translate into understanding of place value and we se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2"/>
          <p:cNvGrpSpPr/>
          <p:nvPr/>
        </p:nvGrpSpPr>
        <p:grpSpPr>
          <a:xfrm>
            <a:off x="2209680" y="4647240"/>
            <a:ext cx="934920" cy="2059920"/>
            <a:chOff x="2209680" y="4647240"/>
            <a:chExt cx="934920" cy="2059920"/>
          </a:xfrm>
        </p:grpSpPr>
        <p:sp>
          <p:nvSpPr>
            <p:cNvPr id="157" name="Text Box 13"/>
            <p:cNvSpPr/>
            <p:nvPr/>
          </p:nvSpPr>
          <p:spPr>
            <a:xfrm>
              <a:off x="2341800" y="479988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2646360" y="533304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2209680" y="6019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6"/>
            <p:cNvSpPr/>
            <p:nvPr/>
          </p:nvSpPr>
          <p:spPr>
            <a:xfrm>
              <a:off x="2209680" y="57153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>
              <a:off x="2514600" y="502956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2584800" y="464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9"/>
            <p:cNvSpPr/>
            <p:nvPr/>
          </p:nvSpPr>
          <p:spPr>
            <a:xfrm>
              <a:off x="2652840" y="594288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20"/>
          <p:cNvGrpSpPr/>
          <p:nvPr/>
        </p:nvGrpSpPr>
        <p:grpSpPr>
          <a:xfrm>
            <a:off x="5105520" y="4494600"/>
            <a:ext cx="1372320" cy="2212200"/>
            <a:chOff x="5105520" y="4494600"/>
            <a:chExt cx="1372320" cy="2212200"/>
          </a:xfrm>
        </p:grpSpPr>
        <p:sp>
          <p:nvSpPr>
            <p:cNvPr id="165" name="Text Box 21"/>
            <p:cNvSpPr/>
            <p:nvPr/>
          </p:nvSpPr>
          <p:spPr>
            <a:xfrm>
              <a:off x="5632920" y="4494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2"/>
            <p:cNvSpPr/>
            <p:nvPr/>
          </p:nvSpPr>
          <p:spPr>
            <a:xfrm>
              <a:off x="5304240" y="479952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23"/>
            <p:cNvSpPr/>
            <p:nvPr/>
          </p:nvSpPr>
          <p:spPr>
            <a:xfrm>
              <a:off x="5618520" y="4799520"/>
              <a:ext cx="802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24"/>
            <p:cNvSpPr/>
            <p:nvPr/>
          </p:nvSpPr>
          <p:spPr>
            <a:xfrm>
              <a:off x="5608800" y="533268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5486400" y="6019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26"/>
            <p:cNvSpPr/>
            <p:nvPr/>
          </p:nvSpPr>
          <p:spPr>
            <a:xfrm>
              <a:off x="5715000" y="5045040"/>
              <a:ext cx="30492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27"/>
            <p:cNvSpPr/>
            <p:nvPr/>
          </p:nvSpPr>
          <p:spPr>
            <a:xfrm>
              <a:off x="5845680" y="4646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28"/>
            <p:cNvSpPr/>
            <p:nvPr/>
          </p:nvSpPr>
          <p:spPr>
            <a:xfrm>
              <a:off x="5364360" y="5942520"/>
              <a:ext cx="1113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165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29"/>
            <p:cNvSpPr/>
            <p:nvPr/>
          </p:nvSpPr>
          <p:spPr>
            <a:xfrm>
              <a:off x="5105520" y="56386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>
              <a:off x="5477040" y="5029200"/>
              <a:ext cx="22860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31"/>
            <p:cNvSpPr/>
            <p:nvPr/>
          </p:nvSpPr>
          <p:spPr>
            <a:xfrm>
              <a:off x="5547240" y="468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32"/>
            <p:cNvSpPr/>
            <p:nvPr/>
          </p:nvSpPr>
          <p:spPr>
            <a:xfrm>
              <a:off x="5175720" y="4646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09760" y="247680"/>
            <a:ext cx="77342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Limits of </a:t>
            </a:r>
            <a:r>
              <a:rPr b="0" i="1" lang="en-AU" sz="4200" spc="-1" strike="noStrike">
                <a:solidFill>
                  <a:srgbClr val="0f3256"/>
                </a:solidFill>
                <a:latin typeface="Arial"/>
              </a:rPr>
              <a:t>models of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place value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14440" y="1904760"/>
            <a:ext cx="757728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An over-reliance on the linguistic tags approach leads to problems when the student breaks the number into par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42"/>
          <p:cNvGrpSpPr/>
          <p:nvPr/>
        </p:nvGrpSpPr>
        <p:grpSpPr>
          <a:xfrm>
            <a:off x="3713400" y="3199320"/>
            <a:ext cx="2212200" cy="840240"/>
            <a:chOff x="3713400" y="3199320"/>
            <a:chExt cx="2212200" cy="840240"/>
          </a:xfrm>
        </p:grpSpPr>
        <p:sp>
          <p:nvSpPr>
            <p:cNvPr id="180" name="Text Box 27"/>
            <p:cNvSpPr/>
            <p:nvPr/>
          </p:nvSpPr>
          <p:spPr>
            <a:xfrm>
              <a:off x="3713400" y="327528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28"/>
            <p:cNvSpPr/>
            <p:nvPr/>
          </p:nvSpPr>
          <p:spPr>
            <a:xfrm>
              <a:off x="5123160" y="3275280"/>
              <a:ext cx="802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29"/>
            <p:cNvSpPr/>
            <p:nvPr/>
          </p:nvSpPr>
          <p:spPr>
            <a:xfrm>
              <a:off x="4569120" y="3199320"/>
              <a:ext cx="496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38"/>
          <p:cNvGrpSpPr/>
          <p:nvPr/>
        </p:nvGrpSpPr>
        <p:grpSpPr>
          <a:xfrm>
            <a:off x="3262320" y="3886200"/>
            <a:ext cx="623520" cy="1144440"/>
            <a:chOff x="3262320" y="3886200"/>
            <a:chExt cx="623520" cy="1144440"/>
          </a:xfrm>
        </p:grpSpPr>
        <p:sp>
          <p:nvSpPr>
            <p:cNvPr id="184" name="Text Box 30"/>
            <p:cNvSpPr/>
            <p:nvPr/>
          </p:nvSpPr>
          <p:spPr>
            <a:xfrm>
              <a:off x="3262320" y="42663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cc3300"/>
                  </a:solidFill>
                  <a:latin typeface="Arial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34"/>
            <p:cNvSpPr/>
            <p:nvPr/>
          </p:nvSpPr>
          <p:spPr>
            <a:xfrm flipH="1">
              <a:off x="3580920" y="3886200"/>
              <a:ext cx="304920" cy="4572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Group 40"/>
          <p:cNvGrpSpPr/>
          <p:nvPr/>
        </p:nvGrpSpPr>
        <p:grpSpPr>
          <a:xfrm>
            <a:off x="4267080" y="3886200"/>
            <a:ext cx="534960" cy="1144440"/>
            <a:chOff x="4267080" y="3886200"/>
            <a:chExt cx="534960" cy="1144440"/>
          </a:xfrm>
        </p:grpSpPr>
        <p:sp>
          <p:nvSpPr>
            <p:cNvPr id="187" name="Text Box 31"/>
            <p:cNvSpPr/>
            <p:nvPr/>
          </p:nvSpPr>
          <p:spPr>
            <a:xfrm>
              <a:off x="4310280" y="42663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99"/>
                  </a:solidFill>
                  <a:latin typeface="Arial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5"/>
            <p:cNvSpPr/>
            <p:nvPr/>
          </p:nvSpPr>
          <p:spPr>
            <a:xfrm>
              <a:off x="4267080" y="3886200"/>
              <a:ext cx="228600" cy="457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Group 39"/>
          <p:cNvGrpSpPr/>
          <p:nvPr/>
        </p:nvGrpSpPr>
        <p:grpSpPr>
          <a:xfrm>
            <a:off x="4938840" y="3886200"/>
            <a:ext cx="491760" cy="1144440"/>
            <a:chOff x="4938840" y="3886200"/>
            <a:chExt cx="491760" cy="1144440"/>
          </a:xfrm>
        </p:grpSpPr>
        <p:sp>
          <p:nvSpPr>
            <p:cNvPr id="190" name="Text Box 32"/>
            <p:cNvSpPr/>
            <p:nvPr/>
          </p:nvSpPr>
          <p:spPr>
            <a:xfrm>
              <a:off x="4938840" y="42663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cc33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 flipH="1">
              <a:off x="5257440" y="3886200"/>
              <a:ext cx="152280" cy="45720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5791320" y="3886200"/>
            <a:ext cx="623520" cy="1144440"/>
            <a:chOff x="5791320" y="3886200"/>
            <a:chExt cx="623520" cy="1144440"/>
          </a:xfrm>
        </p:grpSpPr>
        <p:sp>
          <p:nvSpPr>
            <p:cNvPr id="193" name="Text Box 33"/>
            <p:cNvSpPr/>
            <p:nvPr/>
          </p:nvSpPr>
          <p:spPr>
            <a:xfrm>
              <a:off x="5923080" y="4266360"/>
              <a:ext cx="49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000099"/>
                  </a:solidFill>
                  <a:latin typeface="Arial"/>
                </a:rPr>
                <a:t>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7"/>
            <p:cNvSpPr/>
            <p:nvPr/>
          </p:nvSpPr>
          <p:spPr>
            <a:xfrm>
              <a:off x="5791320" y="3886200"/>
              <a:ext cx="30456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Rectangle 43"/>
          <p:cNvSpPr/>
          <p:nvPr/>
        </p:nvSpPr>
        <p:spPr>
          <a:xfrm>
            <a:off x="1409760" y="5029200"/>
            <a:ext cx="7581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Arial"/>
              </a:rPr>
              <a:t>Instead of 2 in the tens column and 3 in the units column, 23 needs to be seen as a composite — 20 and 3 or 10 and 13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4107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f3256"/>
                </a:solidFill>
                <a:latin typeface="Arial"/>
              </a:rPr>
              <a:t>Focus for mental computation</a:t>
            </a:r>
            <a:endParaRPr b="0" lang="en-US" sz="40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93640" y="2971440"/>
            <a:ext cx="75006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udents explaining their own mental strate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udents listening to and evaluating, in their own minds, the methods other students are u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Your questioning needs to facilitat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490760" y="1981080"/>
            <a:ext cx="7424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ith mental computation the focus is twofol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9760" y="304920"/>
            <a:ext cx="7734240" cy="66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f3256"/>
                </a:solidFill>
                <a:latin typeface="Arial"/>
              </a:rPr>
              <a:t>Developing </a:t>
            </a:r>
            <a:r>
              <a:rPr b="0" i="1" lang="en-AU" sz="3800" spc="-1" strike="noStrike">
                <a:solidFill>
                  <a:srgbClr val="0f3256"/>
                </a:solidFill>
                <a:latin typeface="Arial"/>
              </a:rPr>
              <a:t>models for</a:t>
            </a:r>
            <a:r>
              <a:rPr b="0" lang="en-AU" sz="3800" spc="-1" strike="noStrike">
                <a:solidFill>
                  <a:srgbClr val="0f3256"/>
                </a:solidFill>
                <a:latin typeface="Arial"/>
              </a:rPr>
              <a:t> place value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1409760" y="1981080"/>
            <a:ext cx="750564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0440" indent="-460440">
              <a:lnSpc>
                <a:spcPct val="100000"/>
              </a:lnSpc>
              <a:spcBef>
                <a:spcPts val="90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Mental computation practices often preserve the relative value of the parts of the numbers that are being operated 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0440" indent="-460440">
              <a:lnSpc>
                <a:spcPct val="100000"/>
              </a:lnSpc>
              <a:spcBef>
                <a:spcPts val="100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That is, hundreds are treated as hundreds and tens are treated as tens.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9760" y="380520"/>
            <a:ext cx="7734240" cy="5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0f3256"/>
                </a:solidFill>
                <a:latin typeface="Arial"/>
              </a:rPr>
              <a:t>Developing </a:t>
            </a:r>
            <a:r>
              <a:rPr b="0" i="1" lang="en-AU" sz="3800" spc="-1" strike="noStrike">
                <a:solidFill>
                  <a:srgbClr val="0f3256"/>
                </a:solidFill>
                <a:latin typeface="Arial"/>
              </a:rPr>
              <a:t>models for</a:t>
            </a:r>
            <a:r>
              <a:rPr b="0" lang="en-AU" sz="3800" spc="-1" strike="noStrike">
                <a:solidFill>
                  <a:srgbClr val="0f3256"/>
                </a:solidFill>
                <a:latin typeface="Arial"/>
              </a:rPr>
              <a:t> place value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1408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1414440" y="2133720"/>
            <a:ext cx="7500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9200" indent="-349200">
              <a:lnSpc>
                <a:spcPct val="100000"/>
              </a:lnSpc>
              <a:spcBef>
                <a:spcPts val="90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In written algorithms, the relative values are set aside and digits are manipulated as though they </a:t>
            </a:r>
            <a:r>
              <a:rPr b="1" i="1" lang="en-AU" sz="3600" spc="-1" strike="noStrike">
                <a:solidFill>
                  <a:srgbClr val="000000"/>
                </a:solidFill>
                <a:latin typeface="Arial"/>
              </a:rPr>
              <a:t>were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uni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9200" indent="-349200">
              <a:lnSpc>
                <a:spcPct val="100000"/>
              </a:lnSpc>
              <a:spcBef>
                <a:spcPts val="90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Mental computation is more likely to be meaning-based than written algorithms which are rule-bas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600200" y="274284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 users close the new browser window to return to the webs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users - quit PowerPoint to retu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9760" y="247680"/>
            <a:ext cx="77342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Explaining mental methods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90760" y="198108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explanation and justification are central components of mental computation, students learn far more than arithme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learn what constitutes a mathematical argument and they learn to think and reason mathemat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f3256"/>
                </a:solidFill>
                <a:latin typeface="Arial"/>
              </a:rPr>
              <a:t>Valuing Mental Computation Online</a:t>
            </a:r>
            <a:endParaRPr b="0" lang="en-US" sz="36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2666520"/>
            <a:ext cx="6967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f3256"/>
                </a:solidFill>
                <a:latin typeface="Arial"/>
              </a:rPr>
              <a:t>Recording student respon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414000"/>
            <a:ext cx="72579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Recording student responses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90760" y="198108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t is important to record student responses so that all students can </a:t>
            </a:r>
            <a:r>
              <a:rPr b="0" i="1" lang="en-AU" sz="3200" spc="-1" strike="noStrike">
                <a:solidFill>
                  <a:srgbClr val="000099"/>
                </a:solidFill>
                <a:latin typeface="Arial"/>
              </a:rPr>
              <a:t>see the thinking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t is important </a:t>
            </a:r>
            <a:r>
              <a:rPr b="0" i="1" lang="en-AU" sz="3200" spc="-1" strike="noStrike">
                <a:solidFill>
                  <a:srgbClr val="000099"/>
                </a:solidFill>
                <a:latin typeface="Arial"/>
              </a:rPr>
              <a:t>not to judge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the methods students of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udents will be able to </a:t>
            </a:r>
            <a:r>
              <a:rPr b="0" i="1" lang="en-AU" sz="3200" spc="-1" strike="noStrike">
                <a:solidFill>
                  <a:srgbClr val="000099"/>
                </a:solidFill>
                <a:latin typeface="Arial"/>
              </a:rPr>
              <a:t>see the variet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of methods and may choose to try a different one nex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414000"/>
            <a:ext cx="72579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Recording student responses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90760" y="1981080"/>
            <a:ext cx="7500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way you record the student responses so that all students can visualise the thinking will depend on the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empty number line is a useful tool when the student begins with one of the numbers and deals with the second number in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cording the steps is better when the student partitions both numbers and then recomb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9760" y="353520"/>
            <a:ext cx="727704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f3256"/>
                </a:solidFill>
                <a:latin typeface="Arial"/>
              </a:rPr>
              <a:t>Problem: 52 – 17 =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9400" y="1980720"/>
            <a:ext cx="77295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 took 10 from the 52 to give me 42. Then I took away 2 more gives me 40. I have 5 more to take away gives 35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Law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I took away the 2. Then I took away the 10. Then I took away the other 5. My answer is 35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Denz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 started at 17 and added 3 to make 20 and then 30 more makes 50 and I need 2 more to get to 52.  My answer is  </a:t>
            </a:r>
            <a:r>
              <a:rPr b="0" lang="en-AU" sz="2400" spc="-1" strike="noStrike">
                <a:solidFill>
                  <a:srgbClr val="919191"/>
                </a:solidFill>
                <a:latin typeface="Arial"/>
              </a:rPr>
              <a:t>33 …,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35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K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183eb6"/>
              </a:buClr>
              <a:buSzPct val="75000"/>
              <a:buFont typeface="Monotype Sort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I take 10 from 50 to get 40. Then I take 7 from 2 to get 5 down. My answer is 35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Domi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417600"/>
            <a:ext cx="7277040" cy="49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f3256"/>
                </a:solidFill>
                <a:latin typeface="Arial"/>
              </a:rPr>
              <a:t>Problem: 52 – 17 =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75060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 took 10 from the 52 to give me 42. Then I took away 2 more gives me 40. I have 5 more to take away gives 35. 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Law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1" descr="&#13;52minus17.tif                                                  0002C49C&#10;QTP laptop                     00001E4B:"/>
          <p:cNvPicPr/>
          <p:nvPr/>
        </p:nvPicPr>
        <p:blipFill>
          <a:blip r:embed="rId1"/>
          <a:srcRect l="0" t="32003" r="0" b="51202"/>
          <a:stretch/>
        </p:blipFill>
        <p:spPr>
          <a:xfrm>
            <a:off x="1676520" y="4343400"/>
            <a:ext cx="6350040" cy="10666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2"/>
          <p:cNvSpPr/>
          <p:nvPr/>
        </p:nvSpPr>
        <p:spPr>
          <a:xfrm>
            <a:off x="7317360" y="540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4498200" y="540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4"/>
          <p:cNvSpPr/>
          <p:nvPr/>
        </p:nvSpPr>
        <p:spPr>
          <a:xfrm>
            <a:off x="3736080" y="540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853960" y="40377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4115520" y="47235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3048840" y="4342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2288160" y="540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286000" y="5410080"/>
            <a:ext cx="457200" cy="38124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277040" cy="74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400" spc="-1" strike="noStrike">
                <a:solidFill>
                  <a:srgbClr val="0f3256"/>
                </a:solidFill>
                <a:latin typeface="Arial"/>
              </a:rPr>
              <a:t>Problem: 52 – 17 =</a:t>
            </a:r>
            <a:r>
              <a:rPr b="0" lang="en-AU" sz="4200" spc="-1" strike="noStrike">
                <a:solidFill>
                  <a:srgbClr val="0f325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f325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85720" y="1981080"/>
            <a:ext cx="75056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irst I took away the 2. Then I took away the 10. Then I took away the other 5. My answer is 35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99"/>
                </a:solidFill>
                <a:latin typeface="Arial"/>
              </a:rPr>
              <a:t>Denz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7631640" y="53330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6945840" y="53330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4041000" y="53330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2523240" y="5339160"/>
            <a:ext cx="519120" cy="45972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33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9" descr="_x000f_52minus17_2.tif                                                0002C49C&#10;QTP laptop                     00001E4B:"/>
          <p:cNvPicPr/>
          <p:nvPr/>
        </p:nvPicPr>
        <p:blipFill>
          <a:blip r:embed="rId1"/>
          <a:srcRect l="0" t="32003" r="0" b="51202"/>
          <a:stretch/>
        </p:blipFill>
        <p:spPr>
          <a:xfrm>
            <a:off x="1955880" y="4267080"/>
            <a:ext cx="6350040" cy="10670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0"/>
          <p:cNvSpPr/>
          <p:nvPr/>
        </p:nvSpPr>
        <p:spPr>
          <a:xfrm>
            <a:off x="7315920" y="4677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5410800" y="3945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3347280" y="4342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01:52:56Z</dcterms:created>
  <dc:creator>CURRIC</dc:creator>
  <dc:description/>
  <cp:keywords>mental computation numeracy</cp:keywords>
  <dc:language>en-US</dc:language>
  <cp:lastModifiedBy>SARKELL1</cp:lastModifiedBy>
  <cp:lastPrinted>2002-07-10T01:33:52Z</cp:lastPrinted>
  <dcterms:modified xsi:type="dcterms:W3CDTF">2010-08-12T02:09:02Z</dcterms:modified>
  <cp:revision>254</cp:revision>
  <dc:subject/>
  <dc:title>PowerPoint Presentation  -  Valuing mental computation online - before you start</dc:title>
</cp:coreProperties>
</file>